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0908"/>
        <c:axId val="30260020"/>
      </c:barChart>
      <c:catAx>
        <c:axId val="55909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60020"/>
        <c:crosses val="autoZero"/>
        <c:auto val="1"/>
        <c:lblAlgn val="ctr"/>
        <c:lblOffset val="100"/>
        <c:noMultiLvlLbl val="0"/>
      </c:catAx>
      <c:valAx>
        <c:axId val="302600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09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3C0E-1FCA-4946-81B8-8445B3CE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5EA-54E8-4992-8201-24B871AE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A18-1682-4C80-9FC0-E4EB8711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E2D-32D4-4843-8F8E-86848C86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F695-B121-464F-B057-78CBFC93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1E24-D5B9-4273-9875-CDC730DD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A16C-9B98-4DD0-AF30-7577499F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BEED-8095-4FD4-8ADF-4877356D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08F-47F9-40F8-AE0A-FCE8F3A8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06F-1AAD-4062-AA1F-B3209B94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708-F94E-40B0-BC9D-B3631F80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652-C6A9-4A1C-911C-2CFFA601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FDCD8-CB94-4E3E-B16A-950BB60D63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