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219971"/>
        <c:axId val="74725146"/>
      </c:barChart>
      <c:catAx>
        <c:axId val="452199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25146"/>
        <c:crosses val="autoZero"/>
        <c:auto val="1"/>
        <c:lblAlgn val="ctr"/>
        <c:lblOffset val="100"/>
        <c:noMultiLvlLbl val="0"/>
      </c:catAx>
      <c:valAx>
        <c:axId val="747251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199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FD03-C9E4-4066-89CC-5ADBC154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8169-3C2D-41A8-9B3E-61F2E192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CAB2-3107-4F61-893F-47383970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151D-00DF-4906-B979-2F5E596F6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FB3A-937F-49C0-A642-2F777C91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EA03-5AF0-44FC-BD08-414328C7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A7E6-6C4D-4871-A90B-D7FB9D67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1C77-2022-4705-849F-3E018C7A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80DB-5ECD-4610-AEF3-8C8774FC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0E76-3293-4300-A008-A9240D5C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C479-A07C-4170-983D-C808A914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7637-8E6D-4640-9DC1-1AF22C97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20EE1-94AD-4E24-A656-51616361B1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