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A784AE31-C859-4BC0-B614-D3D0772FE68A}"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CFE43EA9-EE24-41F7-AA2B-9A10AA7644D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0A77DA25-EC2D-45AD-B19C-B4DFCBFAAD3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1F935DD0-EDCF-4CD8-85DC-D1E636664B85}"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71FB47A7-C537-4003-A4C0-65686D95F37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B8D8C41-138C-4E25-A232-45E01BFFD7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39C58DD-0F5F-4BFD-BB8F-06E0FB1BE86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20EC343-5D8A-4C09-9061-342478A99DF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63C67EB-C464-4E8D-B19A-49432AF8EF13}"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228E46F-E1E1-405A-A0EA-D7B7628AB2A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5CF7E55B-2B03-4EDE-828B-5B3789A89878}"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8D5850E-0B25-4543-8628-C3D68BC23D73}"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3D5DBD23-7422-4D09-9A97-8AB7AE3E7C8B}"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8F5E3E7-4CC8-4216-BF2A-BF22A2F7A26A}"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6AD0A5CB-A94F-4004-BF25-0E4DD913C357}"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5421B387-79EA-43DD-8C29-FFC85B9314FB}"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C37EF55-A940-409E-BB4B-41EEDBA7927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5EAA576-6A75-4886-8D15-8344A2693029}"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491BA572-00FC-445A-8147-5E85C5A49363}"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0CBB9-6F86-4017-9C77-5DF3769FC394}"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A671AFCF-197D-402F-AEE7-3705A02E9438}"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DEDB6108-C12B-4CE2-AD0C-A7942EABD81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1CC8F3C1-6016-4F08-8AC5-0AA877FC72A6}"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56EEC76A-25C0-4D16-9E88-ACF976182A9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96FC47A9-C2A1-434C-BD14-786819932DF1}"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8DD7094-9048-4C85-A3D3-13A3C6EBD34D}"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DAE6E8ED-F676-49DB-8754-58B158E8082A}"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316A855-BB46-414A-8DB1-1F970CCBA8E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27BCA581-FAE3-4B3F-835C-04D0CDC862C2}"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7DC63018-DD8F-46AB-9E29-D121522C907B}"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BBD8BD6D-3042-4454-B516-91466F1C67BC}"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69C988C-5AF9-4810-973E-18EE5133B09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D53AB039-1F6E-4392-9D5E-54FF763EE57A}"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678E4B77-261F-44A9-BDCE-6ABA02B2469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70D31CF3-7447-4C04-8BC4-746F5D08C84A}"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E79D485-B46B-4684-876F-9967B254384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453A9B9A-6DCB-49CC-BA90-1DB30768ACC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F3FA0FEB-B9BE-4025-BC13-8DBA7C72DD9C}"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BEE8FB4F-781A-4E9C-8BBF-C948F01E42E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D3BAB79D-E481-4B60-88F3-39B329376499}"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C20D2C4C-47B4-4263-BB0E-9DB9D5D47CB7}"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F035B19D-056F-481F-A256-2BFC6F68353E}"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24612C26-FF10-4E2C-BE94-A93B613EE05C}"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2161ACB7-CB9B-4161-BAF7-9F8A1178CC12}"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AC1FC95C-A089-4B04-A8A0-40F2AC9C6821}"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163F02B3-B8F0-4B0C-98B3-906660489E86}"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5B14D99-55C9-4788-89AE-7953E563E72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19E5179-9F01-415E-A1FA-94E1BABF30AB}"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66C9682D-59C0-428C-8667-ACB6C4C120D8}"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108BCAF2-3F32-4BA9-9CF3-09680BCA1F79}"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AB9E034C-3D65-44A7-A8DA-0E42C680B83C}"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8D207504-508F-421B-906F-4C2049AA5D7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740EBF5-3BFE-410E-BBB9-2C3F8B75088E}"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EB65380B-4274-43F9-9FB7-DD9CBBE9506C}"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3F935098-893D-49EE-9FF3-B37C0983B4F2}"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A347D23B-393D-49D7-88E7-126C148C9E2E}"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2D705D9B-D7F9-4034-B558-C1F02993EB01}"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9B795653-E4D4-4449-BAAC-E6AD0B8EF4E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AD0F36B-7113-4AC6-A271-712DE6242C11}"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11FF8D48-1D20-46C6-95A7-BAB1A305A056}"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AE8B24FC-7628-40BA-9DE0-82E989DF8434}"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FAAFAF02-89E6-49F5-B4E5-9C22EE50A52A}"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E17B93D4-F4CF-414E-BB75-2CEAEFDD9B73}"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B3E5D361-59F0-441C-ABF6-E082D25B6923}"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95AE352-5AD2-42F9-8CB5-6C805ACC207C}"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735440A1-6B72-4DE5-A6AB-A50BCF59B013}"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0C14268E-A254-4DF1-84A1-95688E94CDB1}"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CEB62F0B-3F4C-4667-AC0B-C876C96AD6AF}"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BCA94D8-877A-4608-BBCC-E1461D1DE8C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1147D00E-6B58-440E-885A-FB02AA059ED6}"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703ACA11-E4EA-4A25-AF42-E41613376F7B}"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CCD14765-9730-46A9-AD03-DB2AEA7E55F4}"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77EA2639-ACF9-454A-B4D7-C94F118696C5}"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00FAB3E2-70E2-49BA-B170-022FB3D96CFC}"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71BC8092-6F1F-4F23-B676-2D135E4F5DB4}"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1025CFD3-9CF1-4B14-B678-4D96756B79D5}"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E95632DE-E7B1-42F8-8C54-27C16D5B31B8}"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063AF90-490D-4B6E-B1FC-60D95C11F43A}"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946687E-E7C4-4323-BD01-05DD583BD68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B9D950-BAF0-47BF-A1B2-09B1DEB49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DC47CFA-C5C9-49EE-9A4D-021211410BC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D11B258-4C2C-4DC5-89B4-2815B5893B60}"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F7B7B2B8-6A27-441E-84AF-C8361E5934E5}"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0D42B7E5-7953-42F0-AC14-151E4D59AEB8}"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92716A70-7026-4D23-9B74-9B5DE7280F60}"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BF78E47A-E8AE-4D1A-84D9-013BEC35D1CC}"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6A12FED2-31A5-4D55-9BD2-BBDDD6AC0742}"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CB36187C-9C02-4129-BEF9-0146AF85B65B}"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6B6C7439-B964-45FC-9560-B4C4C6E2E89D}"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7E5280B-79F0-4A7F-B06F-F56F546F7093}"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8402F793-69F4-41D2-A1C7-098E904FEE4D}"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9DDCA439-5B68-4A0E-B646-66D1F3D612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C34607F8-A740-4643-8EBD-651EA1460C82}"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88EFA261-C466-48E5-BA3A-AD0F75F0EF0A}"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0FAE6590-6A5C-432C-8818-ACAB26B0B87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641D7CF1-B3E0-4ADB-9B75-2D12CD1E20A3}"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08D40C76-0723-456C-B7A2-AEBB0CD2C78C}"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030D7E56-7463-4580-95F1-3A9BDEE43A97}"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6788F14C-7099-4C35-BFAA-C108A57F7CF2}"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C519CD17-1D08-4F00-AB6F-92BBE3AC711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5AA3543A-55C0-40B8-917B-BD1E43653D32}"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4D59B7D1-3405-42FA-97DC-FF74EDE190C7}"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8DB6C1D-984B-4F4F-9F22-0DF56E1510DC}"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1B83F1B6-D1BB-4AFC-84AB-A52A49534EC1}"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1B610145-3BE0-471B-B44A-040B067183B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C4014682-7202-48FE-A077-049A076A67DC}"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CEEEA068-879C-4038-B7DA-68EFCC9CCAD7}"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E8F43E3-3A43-4C0B-877B-61E873437D26}"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EE5DB971-6F05-4DAC-B769-E52E61175771}"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F12FA201-E5C0-4BA5-8582-8B2125AE70DB}"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0BA87459-99F8-4753-8DBB-072546DD6343}"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6FC12D7F-DF36-4ADF-A4AD-82D44EF9E113}"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9F284684-40DF-4653-9E85-5358A83D2E10}"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8C62D0F-0E58-4ED5-AEFD-ABB3ABD940F0}"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28B872FD-652F-4CDD-9EBC-7C21FC27C4AA}"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41A9AD47-F3E4-460D-9506-0B5572C92D3E}"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46323F83-1B15-4731-AD8B-34005B3FDD29}"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1BBDFCF-1EFA-42C8-BEFC-C48CCB31CCD1}"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4BEEE10E-E6FA-4122-9E8C-51439977A993}"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D85DE07-1C91-4A9B-9929-EF0B6AAD2868}"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A7B78E75-01D8-4872-A646-375A133E8CF9}"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5CAAD5BA-1F43-48D7-8C34-8F2F6B098385}"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3C704793-0AED-48DF-950A-50C44440DFB2}"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A3986F64-95A2-4004-8D37-AD88C6EA6869}"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14856D8-841E-4E6B-BD78-EFD4A031C692}"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5CC67DE-71C9-4147-B999-15C5A9B5E52D}"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3AFBB6B-599D-4B68-8C9F-A15BAFB885D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9D312AC9-E938-4E5D-9342-517533FE2DAB}"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F83FE218-4B9D-4AE1-A902-70974360A986}"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A3DBEA2B-3CA3-489C-B5DE-01301E0B3CF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1C6FF14-B0A4-4554-BD84-E3CB0C04A3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DEC36B3A-5A20-461A-A3C1-F648D80E38B0}"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742A0B3-52C1-483D-88C0-47C2F9C9BEC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99AD7C-AB88-45F3-AD38-FF6AD312EA40}"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E4E4E538-E2BF-48D2-B78D-91F4A019E67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E610AB4-3615-4791-875F-559D5501A05D}"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C2BBC897-E109-4813-94C0-66E550AB62B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283EE5C2-33C4-413F-BE17-0A5ADC8EB578}"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EB465B40-428D-4F6B-9AC1-29F02B8D5BB2}"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289EAC58-9B16-4B09-91B8-30BAF24F6879}"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FEC252AF-BB5F-4A13-A13F-FD10A102D188}"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5C3AF18-E3B3-4637-AE85-CCFEBB1E2AE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9D994F1E-9443-4F0A-837D-3C2412E22E36}"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B61F8EE2-8450-4433-87B1-BB668C395BE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E110E1-5C3D-458D-A002-DE3A4F37C82E}"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815D162C-CE71-4402-BB02-F7092BD1874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2983A7C5-9A51-437A-93D7-C927D820BB74}"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15E27D46-8C09-4B12-A18A-26153A8488E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E2842E7-2117-411D-8717-59CE69EE0153}"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B2D782A7-52CA-474B-B08D-0315C3D89D94}"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53614F14-F429-4690-8290-54B0DB1733EF}"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43A81EF4-B568-4F1A-81B3-F5CAB0B94FEC}"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52EBAF1-6DC2-4DD8-9A8C-8D3CD1B5CE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BE7CF146-F51C-46AC-BD96-8D15AFCD3BED}"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4A676007-A06B-47B8-BF2D-45F1585621CA}"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98C38A57-FEFC-491F-B22C-E1D601179F89}"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F54A2848-8B2F-46BA-820A-ABAA47E3E11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AD21D-E3AA-48FC-BB52-0420C86CEF13}"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11B11079-F507-4C72-AC2D-136D612563F7}"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A321CC9-1AC6-44E7-B2D1-338D97628BA4}"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F5C4E2D-3501-4A43-ACB9-F6112B24169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FD5F4D7B-310A-4032-800E-7640CD74A3A4}"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4A6064F-EA53-45CD-BA99-6F0435480902}"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F0C60FA-BF64-4285-BED5-156DF1CBB4D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FAA15800-E7C5-48EF-A7AC-AA0C2DAD199D}"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ECA1D3AF-A2FE-41D3-80C5-FF2E44507933}"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4BCEB4CD-7AF7-49D6-97E0-A3784E9C9F64}"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6824B84-99EF-4F75-838D-20A8824D0294}"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9D5DA32-AF93-44E8-B7E6-237E1CCDD8C8}"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925673BF-BFDE-40A9-B89D-1DC616A8EE0E}"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1BC44F9E-779E-4FD1-805F-6EE9EA59ED8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7A9726C-AA1F-448C-A08B-9968911C0B1B}"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71CBFBA1-A89F-4F95-BDEC-D5EED3CFF30A}"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3F93BF22-1115-4986-9DFB-7DCC288B597F}"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83096D-E900-4358-A685-2CAA5111722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5BCA23E-ADD8-40CD-A870-C377F6754F41}"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E4E90189-9ABA-4212-9DBA-5D2589A5C93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8397EDA-EE73-4AD2-81A4-67C7208D6F9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8E5C2A98-7B72-4C95-8B0D-98D25DAE38CD}"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D1A725D-97A0-4EB8-95C6-0B8D9FD5398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0A4D9F5B-00A4-4097-8C88-99DAC2B20F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614A528C-165D-4BB6-B687-6A92EEEA8121}"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8A3E02D-F201-4A81-9AD6-3F5146C58DEE}"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EDD7438-3610-4412-B8C8-4A5137240E5C}"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445ABC5C-1B5A-4B99-934E-591D02CF7BBE}"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A849D2-8D63-457F-B935-45900B55C69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70B7C556-B6B9-47FC-9A33-3A602E0A1CBC}"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7E2DF22-BC98-4F1E-89DB-31158011E948}"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6AA59893-05A2-473A-ADBE-929DD1E3FE86}"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26B2061-2E9E-461F-9389-E25AFD24C75A}"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C26F5268-BBF9-4E73-A98A-50599264C916}"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A0BE9134-5E76-490F-9554-793CAB073DB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6C8763E1-85C4-47F8-B8DA-2E3D47674581}"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855ECEF-3ED6-4DA5-9A7E-B35A2E28B42F}"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5A22E1C-9D53-4E44-875E-B7DCA22B743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D06A2862-0062-48E1-90BF-4254751B40F3}"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4FBA8D58-3672-4BD4-A813-C10C8C32DB7E}"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2C8C579B-D2A0-49FA-8AF5-3FE66BB4B20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A9EC9BCC-A0AA-4081-B3E3-2B535E90CB06}"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F3F87CCF-AF9D-4EFE-9F12-7CCB4DB202A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98D16B64-6FFE-4E56-BE11-653E0270980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CCB76AC1-8013-47DE-9719-C8A6DFB98E5D}"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E59C8254-0253-41A1-B0D6-C55C8072A09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40E789D6-9752-47B0-A1FA-075FAB939804}"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30E7D97-A1E8-4962-8306-8FB89568ECA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1A480164-64A1-46FE-BC4D-565352EE016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FAAF272-E93E-45D3-B3B7-4948E418529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E57FE16-1DA0-4D81-8ACA-70B3BDAC8F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D70A6158-AECE-41CD-AA3C-0A99C2DCCCEA}"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CDBC46CC-1A59-495C-9742-25DD6ACA41A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2A9F6E1-5CFB-4A8A-BE11-FA208C16CF25}"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1130230-9221-4EA4-90C7-942AA5252020}"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