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443631"/>
        <c:axId val="66486824"/>
      </c:barChart>
      <c:catAx>
        <c:axId val="634436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486824"/>
        <c:crosses val="autoZero"/>
        <c:auto val="1"/>
        <c:lblAlgn val="ctr"/>
        <c:lblOffset val="100"/>
        <c:noMultiLvlLbl val="0"/>
      </c:catAx>
      <c:valAx>
        <c:axId val="664868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4436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B3E5-14D2-4F93-A853-A46AD0834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D7F2-B2D5-4067-A364-20E6789A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028D-15DF-4106-A25D-351A033F1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4711-4A15-47AB-8683-6A074F241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6B9C-1FA0-4E8D-AFE9-279F4AD4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0ED5-80E6-4DED-9547-5E6732D5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129B-7AEE-45E0-85A8-585F46C0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7E3E-62EF-41AB-938B-51523906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F19F-0D8B-4AB0-A568-C86B1DB6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90EA-9458-4579-A0AA-8160EB73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AA55-13DB-4C1F-9257-55E8AE06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1C9E-054B-49BD-AA8A-821862F6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707083-4F02-4A7C-AE58-435F6A6C54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