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36128"/>
        <c:axId val="94604617"/>
      </c:barChart>
      <c:catAx>
        <c:axId val="29361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604617"/>
        <c:crosses val="autoZero"/>
        <c:auto val="1"/>
        <c:lblAlgn val="ctr"/>
        <c:lblOffset val="100"/>
        <c:noMultiLvlLbl val="0"/>
      </c:catAx>
      <c:valAx>
        <c:axId val="946046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361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98CD-45AA-480D-ABCE-E9A49E20B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48FF-5875-4D2F-9B18-53B7C61C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2915-739B-43FA-8C5A-F89AFA3CD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EE92-639B-40FD-A780-F86FC620B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E5ED-8BB1-4EBE-9BEB-25127290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7B8D-87F0-4633-B950-4BE68BEE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7DE8-C018-4833-8B80-0640A4B6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29CF-98CE-49FA-9645-7616829A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E780-1CCC-48BD-AE6C-994463BA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B38F-0F2B-4AAB-8F12-B062064C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A15B-3F27-4A9C-B5A3-3E15A912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B8E5-DE79-4440-A245-2626888C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8F170-6C36-47A3-8D0C-C9137D5FE4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