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29933"/>
        <c:axId val="28595930"/>
      </c:barChart>
      <c:catAx>
        <c:axId val="34529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5930"/>
        <c:crosses val="autoZero"/>
        <c:auto val="1"/>
        <c:lblAlgn val="ctr"/>
        <c:lblOffset val="100"/>
        <c:noMultiLvlLbl val="0"/>
      </c:catAx>
      <c:valAx>
        <c:axId val="28595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29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7C6-4EAB-4191-B60F-031574C8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ABF-1860-4938-B2F2-FC29062C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DD4-BAD9-4A32-9211-F181AF89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9DE-B06F-401B-BE7E-CB2CDCCA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E4C-2691-4049-BA17-43AD1751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019-9271-491F-9FB6-6F1EC49D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460-D433-4970-9F74-3E7F9189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A64-2D5A-49FF-807E-DF5A7030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954-3AD6-4E45-8113-A09475A3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F69-35A5-4626-A707-5506573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1E7-4D58-4FE6-B5C8-0D57EF53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D04-F2AC-4DB4-8683-C38C3C8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30242-9E11-4C80-9DBE-9C48119543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