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67280"/>
        <c:axId val="35803651"/>
      </c:barChart>
      <c:catAx>
        <c:axId val="26267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03651"/>
        <c:crosses val="autoZero"/>
        <c:auto val="1"/>
        <c:lblAlgn val="ctr"/>
        <c:lblOffset val="100"/>
        <c:noMultiLvlLbl val="0"/>
      </c:catAx>
      <c:valAx>
        <c:axId val="35803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67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CE0-6502-4650-AB32-13A0A5D8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05B-8D1B-4F50-940D-64988893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DDA-FD07-4465-9062-489103DF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EDE-185F-4536-82FD-B10507DB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700-8626-4051-BACE-587AB590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0CB-7B4D-4058-88E0-B337C42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674-876B-44E3-BC0B-85433635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2D3-D4F2-48EB-8CDC-079CE92E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1FF-2550-4CA6-90D3-E864A0A0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482-E11A-4C30-A055-967D1289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87C-0059-47F9-9477-46C6DEC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86A-C4C9-4319-B9B8-D0FA3E9B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0F513-F091-43AB-81D0-9E46B6D2E8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